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39C-55B2-484A-8A04-356C1804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BB14-FFE3-45B6-B92A-4FED98D265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2DE-A0BD-4B64-9323-B9164C74DD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98DC-BD0E-41FB-AFFB-3569FFF86C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4B30-A20F-42F1-A1C0-929CBF5AA6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B1F6-BFDE-4352-96CF-F803D31FA8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EEE-C7E3-4351-8ADA-9AF889206C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DFD-F90B-4A9E-AF0E-916D432882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425-85E3-4534-A7E3-7AF4982DA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B567-4D97-4E9F-B86F-DA041BF0D2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538-8AB8-468B-B3BF-250C9AB6E1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1B41-DBFE-4C2B-A224-B76289F062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774B-0FF9-46B1-8669-D94E33B406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4BA-A820-42BE-97E8-4823C0A9D4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74B-73B1-4346-BCA8-D9BDDF7E30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B5F2-8CA0-462B-ACEF-2E43800884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6CE6-B26A-4B35-AF6B-4C425B7CAA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2E6B-B489-4539-8E4A-0DE75FE242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5FA4-CD4A-4AC9-9FB1-5F8341C522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8AF1-6F24-435C-8E45-64EF8A4EFE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D07-E149-4819-8952-6DEDB541E3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C4D3-3EC4-4FFF-970C-E56E678CAD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61A0-0587-42DA-8E28-0DB5C3BCDA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278-C929-4FDA-A209-ED57459289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A4B-6955-4B84-A52E-938B19B3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688-6240-472C-844A-E4B3B6D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636-DEC8-4C9D-8290-654EFD64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150-E9DB-46F0-A209-E13F6DED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C4B3-4A09-4886-A2AC-96F4FFF6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2D3C-D7C3-406C-B43C-AFFB7CA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B15E-8503-427D-837D-F87AF09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FC14-744F-4E29-956D-3D782CCB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E2BD-AEB2-4835-A888-0D4B43B8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E6A8-E39E-4541-B683-3D3B34A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0F60-64D6-4580-BA6D-F3AD63FE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EC7-B9D0-44BC-9C71-E8317C5F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B39D-D9AB-4AEA-A739-CC34A90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38C-AFAE-40F6-9FBF-DB90DC4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33E5-5E17-47B3-B499-87B7B3D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E71D-2D4F-4F46-8B23-A5332FFB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B59-D7C7-444C-A71C-98C8E344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390-F744-47E3-9003-EEA22881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876-5912-40CC-B922-9E214635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16F-C531-45F7-8D57-18A9D08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E2A-4624-478D-8EDE-021A81E7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553-17C1-4E98-A1B5-88B2B97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641-4E8A-48AB-A21B-156DFBC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960-8D3D-4A4E-ACEA-2AC69322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5441-1F32-4A1A-AE05-FCB469B5D6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8CD3-8586-438C-A77E-660011892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iedigerfarms.com/wholesale/ipm/ladybugmd.jpg&amp;imgrefurl=http://www.driedigerfarms.com/wholesale/ipm/&amp;h=253&amp;w=300&amp;sz=26&amp;tbnid=EyfZQcWjuM8J:&amp;tbnh=93&amp;tbnw=110&amp;start=36&amp;prev=/images%3Fq%3Dintegrated%2Bpest%2Bmanagement%26start%3D20%26hl%3Den%26lr%3D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Concep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ance of soi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stainable farming pract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ctory Far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egrated 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ladybug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4760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hoto: Blackheaded fireworm larva"/>
          <p:cNvPicPr/>
          <p:nvPr/>
        </p:nvPicPr>
        <p:blipFill>
          <a:blip r:embed="rId3"/>
          <a:stretch/>
        </p:blipFill>
        <p:spPr>
          <a:xfrm>
            <a:off x="685800" y="152388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62120" y="495288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nberry and damage: black headed firewor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sonal flooding to control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0" descr="photo: Fireworm larvae damage"/>
          <p:cNvPicPr/>
          <p:nvPr/>
        </p:nvPicPr>
        <p:blipFill>
          <a:blip r:embed="rId4"/>
          <a:stretch/>
        </p:blipFill>
        <p:spPr>
          <a:xfrm>
            <a:off x="2590920" y="1523880"/>
            <a:ext cx="1447560" cy="29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a-cuc"/>
          <p:cNvPicPr/>
          <p:nvPr/>
        </p:nvPicPr>
        <p:blipFill>
          <a:blip r:embed="rId5"/>
          <a:stretch/>
        </p:blipFill>
        <p:spPr>
          <a:xfrm>
            <a:off x="4267080" y="15238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thrips"/>
          <p:cNvPicPr/>
          <p:nvPr/>
        </p:nvPicPr>
        <p:blipFill>
          <a:blip r:embed="rId6"/>
          <a:stretch/>
        </p:blipFill>
        <p:spPr>
          <a:xfrm>
            <a:off x="6477120" y="1523880"/>
            <a:ext cx="190476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6"/>
          <p:cNvSpPr/>
          <p:nvPr/>
        </p:nvSpPr>
        <p:spPr>
          <a:xfrm>
            <a:off x="4267080" y="4952880"/>
            <a:ext cx="4038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photo:  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datory mite (IPM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ouring a thrips, an agicultural pest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photo:  the thrips by itsel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40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ap of Africa Indicating Desertification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infosys</cp:lastModifiedBy>
  <dcterms:modified xsi:type="dcterms:W3CDTF">2015-11-13T16:53:27Z</dcterms:modified>
  <cp:revision>39</cp:revision>
  <dc:subject/>
  <dc:title>Slide 1</dc:title>
</cp:coreProperties>
</file>